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BA2-2F50-4633-8634-5CE1AC30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3F8-A262-4DA3-881E-DD07657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83D-56D0-435F-9614-D9BF9B90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EF6-64E1-42C6-AA48-17390A39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CEAA-A1E4-4529-84CF-D07F0D6D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5B81-EC0D-4E0C-8694-C0770C31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A8E8-EE99-4D4B-82C7-55531F4F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6B63-B34A-4AA6-9BC7-F88F499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4D37-46B5-4CF6-A4C4-AD0B246B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35EB-0FCB-425A-8837-8C515C77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9E05-BABF-4DC3-99ED-AFE64BC0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1D5-6D6B-425F-B25E-FB87714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66C4-18D5-4541-A325-C4C1D725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B4F5-4EAF-43B0-BA42-CCAE7DD9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B369-A932-47DD-ADCF-B2D249AC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977A-1A0C-4553-B5E4-C21FEE25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9C8E-299E-4138-872B-CEA72396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8E4-2DA5-4957-9771-1B0A265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AE8-CE73-44F5-AE9A-32C48FD3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67D-EF48-42FF-9BCF-B978E3EE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F76-98FA-4F63-A56B-F931CC0B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227-D095-4079-9FB7-60FC227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3CD-6397-42A9-94B9-3A45F22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03A-A536-487D-A93D-D495913E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22F-C9A4-420D-A265-7CA9A87C1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8DBE-C69C-4237-B6AA-A1B9435F0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Lesson #5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Topic: 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Rotational – Tangential Motion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e using rotational kinem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rotational iner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the formula for rotational inertia based upon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5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638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Rotational – Tangential Motion” due tomor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41972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will roll down a ramp faster, a hollow golf ball or a solid golf ball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ngular momentum of a .21kg ball rotating at the end of a string in a circle of radius 1.1m at an angular speed of 10.4 rad / 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ure skater increases her rotation rate from 1 revolution every 2 seconds to 3 rev / s. Her initial rotational inertia was 4.6kg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Find her final rot inert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ctice Problem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ngular momentum of a skater spinning with her arms close to her body at 3.5 rev / s? Assume her to be a uniform cylinder with radius 15 cm and a mass of 55k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torque is required to stop the  same skater from spinning in 5 secon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1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762120"/>
            <a:ext cx="7239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Lesson #4</a:t>
            </a:r>
            <a:br>
              <a:rPr sz="1800"/>
            </a:br>
            <a:r>
              <a:rPr b="0" lang="en-US" sz="1800" spc="-1" strike="noStrike">
                <a:solidFill>
                  <a:srgbClr val="ffffb7"/>
                </a:solidFill>
                <a:latin typeface="Arial Black"/>
              </a:rPr>
              <a:t>Topic: Describing Motion and Rotational Kinema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7652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relative 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rotational motion using familiar kin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ve problems involving angular displacement,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, and accel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114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fast are we mov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334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ngular equation deri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Angular Kinematics Equations…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same as linear equation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v  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a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t         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00200" y="2286000"/>
                <a:ext cx="589752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θ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v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ad</m:t>
                        </m:r>
                        <m:r>
                          <m:t xml:space="preserve">⇒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α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near to angula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20968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ratio connects linear equations to angular equation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/ r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chang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= change in arc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= radius of cir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57200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he equations found in today’s notes, derive the equations 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 and a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2133720"/>
            <a:ext cx="1981080" cy="1828800"/>
          </a:xfrm>
          <a:prstGeom prst="ellipse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048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2300400"/>
            <a:ext cx="6094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2840" y="281448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17524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1752480"/>
            <a:ext cx="2133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2362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104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explain Net tor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Newton’s laws in terms of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Net torqu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572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Lesson #6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Topic: Newton and Tor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6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“Practice with rotation and torqu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do problem #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8381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and then check your answer by setting up the experiment. A 151.5g meter stick is pivoting at the 30cm mark. There is a 271g mass hanging from the 10cm mark. At what cm mark should the 71g mass hang to make the meter stick balanc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wton’s (Rotational) Laws of 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st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(Law of Inertia) An object at rest will remain at rest and an object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ll remain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consta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elocity unless acted on by an outsid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822960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on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ne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ting on an object will caus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cceleration in the same direction as the ne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i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ula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ion is directly proportional to the ne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ied and inversely proportional to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tational inert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object.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Ι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wton’s Laws of Mo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ird L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or ever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lied there must be a counter act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q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qual in magnitude and opposite in dir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429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Pedaling a bicycle. You exert a clockwise torque on the wheel and the wheel exerts an equal counter clockwise tor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876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…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en they cancel out and the net torque is zero…. But then how can I ride a bik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can I ride a bik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95288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ooking at net torque, we only count the torque acting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object not don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3081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3352680"/>
            <a:ext cx="9907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3352680"/>
            <a:ext cx="83808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048120"/>
            <a:ext cx="175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oot on pe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124080" y="2514600"/>
            <a:ext cx="990720" cy="8380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5146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petal on f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38560" y="3327480"/>
            <a:ext cx="838080" cy="6858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dder of length 2.0m and mass 1.0kg is leaning against the wall such that the ladder makes an angle of pi/3 with respect to the floor. With what horizontal force must I exert on the bottom of the ladder to prevent it from slipping and falling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no friction between the ladder and the wall or floo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1.05kg ball on the end of a string is rotated in a horizontal circle of radius 0.9m. Calculate the rotational inertia, and torque needed to maintain a constant angular velocity if air resistance exerts a force of .08N onto the b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rque prac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get a flat uniform cylindrical satellite spinning at the correct rate, engineers fire four tangential rockets. If the satellite has a mass of 2600kg and a radius of 3m, what is the required steady force of each rocket if the satellite is to reach 30rpm in 5 m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114800"/>
            <a:ext cx="2666880" cy="23623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867280" y="502884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2895120" y="510516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4343400" y="380952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86240" y="64771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724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486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66578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652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linear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conservation of angular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e problems involving angular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/7/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76212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Lesson #7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Topic: Angular Momen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334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inish practice problems and throw a Frisbe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114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What is the momentum of a 2 kg toy car traveling at 3m/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gular Momentu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 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 =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*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w of conservation of angular momentum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he total angular momentum of a rotating body remains constant if the net torque acting on it is ze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6-09-06T20:03:22Z</dcterms:modified>
  <cp:revision>24</cp:revision>
  <dc:subject/>
  <dc:title>Lesson #1 8/29/06 </dc:title>
</cp:coreProperties>
</file>